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DF3-D4A6-46FC-90FA-56D3F33E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CBF-59E5-42C5-83DA-1BC28E7D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560-47EF-49DB-AF8B-FAC0B3A5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7D3-E70D-4492-86AF-054A462C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6FE-19A6-451E-BDF7-A20E632A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F21-8095-42CC-9925-43BEEC87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CDE-4BE2-402D-B2ED-8AF6B52C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E90-75E5-49C9-87B9-224A054D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42A-F8A5-47C9-9067-E1325B71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0F0-B6EA-4734-B77A-CAFD317D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CFE-3147-4958-8380-185CC421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9C3-B2DA-44F1-9CF1-98BB49A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E315-8EEC-44EE-A99C-749B33C6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ent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ow long shall we cry for help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lis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r cry to you, ‘Violence!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you will not sa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1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 and hope, we respo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w long, O people, how l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ow long, O God, how long?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2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is your justice,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purpo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rea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is your compa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3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Do you not care for your peopl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reation, your repu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purpose is hidd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ur ey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reason is absent to our 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passion is not discerned by 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4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 hop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l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are afra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5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me demand sig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others seek insigh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ut we have only Christ crucifi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tumbling block and f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wisdom of our t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6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 is the power and wisdom of God.</a:t>
            </a:r>
            <a:r>
              <a:rPr b="0" lang="en-AU" sz="3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rely wisdom is vindi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her dee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1 Corinthians 1:22-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11: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7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faith, we appeal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hope, we will not let God 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love, we claim God’s atten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8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et us honour the Go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receives our crie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gathers us to herself even as we continue to c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bbe0e3"/>
                </a:solidFill>
                <a:latin typeface="Arial"/>
              </a:rPr>
              <a:t>Matthew 23: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6095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9 of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50:57Z</dcterms:created>
  <dc:creator>Anon Anon</dc:creator>
  <dc:description/>
  <dc:language>en-US</dc:language>
  <cp:lastModifiedBy>Anon Anon</cp:lastModifiedBy>
  <dcterms:modified xsi:type="dcterms:W3CDTF">2005-08-09T05:17:18Z</dcterms:modified>
  <cp:revision>17</cp:revision>
  <dc:subject/>
  <dc:title>Lament (SLD-2)</dc:title>
</cp:coreProperties>
</file>